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EF0-F175-4D28-B068-FE5D02EB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AB6-5E75-4352-93AA-79ED1D10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7C5-31ED-4A1B-95F7-1397D57E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2CE0-FEAD-4D41-85B3-802DCEDF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6D05-C8D5-408C-8D5A-65A0D408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8CC1-5994-48B8-A19B-414B01F2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659C-8C17-479E-B0AE-B28A2B30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A07D-B22D-41B0-A30D-62522023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0EB4-98E9-4971-8725-9CB638D8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01D1-9002-4E3F-BE36-494CD038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B307-81AD-45D6-81BC-4487F9A2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692-C656-4C8D-86DD-0FC3DA67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6435-3CBC-4513-B9B9-6B587112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5B1F-AA0D-409A-8080-CB327E3E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8DAA-A60B-462D-9AB4-9F9A48F6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47B4-A3D5-4C5F-B94E-C3EDA9AD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DBEC-2444-4392-8BE3-CC066AC0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A09-597C-4B02-9F40-EF98DE0D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2B3-324A-4051-8424-1A35A3D5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F6F-AA5C-4312-BB3D-63DF5730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669-8EE9-45A4-99D1-B9238C7B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6802-EA39-495C-9756-4117E714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73E-5E86-402F-9B58-8251984E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285-DBEF-4110-B77D-94D0049E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559F-E398-41FC-8E51-6C37A2A114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C2A0-58EE-46B4-841F-63788BC404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00"/>
                </a:solidFill>
                <a:latin typeface="Times New Roman"/>
              </a:rPr>
              <a:t>Wheels on the bu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art 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d you know… 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oung children are most likely to be hit because they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urry to get on or off the bus,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t before they think and have little experience with traffic,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sume motorists will see them and will wait for them to cross,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on't always stay within the bus driver's sight, or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rop something as they get off the bus and run into the path of the bus to pick it up.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od job!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Waiting well back from the b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14440" y="1828800"/>
            <a:ext cx="6815160" cy="4038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ll done…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o pushing    -single file   -plenty of spac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52880" y="2347920"/>
            <a:ext cx="3733920" cy="3000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3520" y="2347920"/>
            <a:ext cx="3657600" cy="3000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member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4000320" cy="39621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O PUSHING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would be awful to be pushed under the whee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ep bags in front or underneat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2743200" cy="4038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2673360" cy="4038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4726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g in front and…           move away from the b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353040" cy="40384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733920" cy="40384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angerzone!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This is the area around the bus where the bus driver has trouble seeing you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STAY 5 BIG STEPS AWAY FROM THE BUS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00320" cy="3962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sappearing Clas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The bus driver could only se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students!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All the rest were in his blind spo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4000320" cy="39621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06:43:20Z</dcterms:created>
  <dc:creator>Educating NZ</dc:creator>
  <dc:description/>
  <dc:language>en-US</dc:language>
  <cp:lastModifiedBy>Educating NZ</cp:lastModifiedBy>
  <dcterms:modified xsi:type="dcterms:W3CDTF">2008-07-22T07:20:30Z</dcterms:modified>
  <cp:revision>2</cp:revision>
  <dc:subject/>
  <dc:title>Wheels on the bus</dc:title>
</cp:coreProperties>
</file>